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FE4-5A5F-421D-820B-73877974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CFE-99FC-45A6-B6EA-6B291AC5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478-6055-4B08-BF76-CF2B281E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387-882D-4A49-9300-ADDC1FF7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A4D0-ED8E-480D-9261-25A07CF1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FFC4-D7A3-4C47-8BE9-13D7F836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E5EE-CCD3-416A-A7CE-4C83BA72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1EE1-81D8-467E-9AEF-686CC67C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0A31-3468-4E2E-B62B-040B1DC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DA47-1C21-4085-B171-2A03441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05B1-6F45-4D7E-A2C1-F331D84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0D3-F148-4601-B24E-C87A15B5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9A3-2C99-4220-B0E7-C968D2E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9DC6-AB36-47E6-B45D-5B5B30A4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DEF9-9928-4A70-8CEC-748A8713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2148-AD34-47AA-BA5B-625FD58C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70DF-C0EE-4C4E-997C-29126429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7C0-220C-4772-A37A-1BF2FBAC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026-28E3-4B2E-A84C-DE289D11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2A7-EE34-49E6-B03A-62DD91D3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7CA-F477-4DF7-93E8-EB1B743D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D96-0167-4F1B-9441-3C0ABEA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4CF-A669-405D-9FCC-E124537A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467-48EF-4D8C-9A68-FC9406F3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A1A0-BA1F-4220-9CC3-78052C5C8C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5F47-9972-4C99-BECE-686558A6E4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IB9ZcZRrMg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9/4  Characteristics of Scienc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1447920"/>
            <a:ext cx="48769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spcBef>
                <a:spcPts val="700"/>
              </a:spcBef>
              <a:buClr>
                <a:srgbClr val="80004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ick up all biology handouts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r">
              <a:spcBef>
                <a:spcPts val="700"/>
              </a:spcBef>
              <a:buClr>
                <a:srgbClr val="80004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ach table, come up with your answer to these questions: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at makes something scientific?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at sets science apart from other fields?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53704" t="958750" r="354630" b="479375"/>
          <a:stretch/>
        </p:blipFill>
        <p:spPr>
          <a:xfrm>
            <a:off x="0" y="5062680"/>
            <a:ext cx="3505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Us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what is astrolo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TABL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im makes predictions based upon the proposed mechanis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: Any argument offered as evidence to support a claim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actually accurate, to the best of our knowled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alid, its conclusion following inevitably from its premises.  Invalid: "All dogs have fleas and Xavier has fleas; therefore Xavier is a dog."  Valid: "All dogs have fleas and Xavier is a dog; therefore Xavier has flea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urden of proof rests on the claim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xtraordinary claims demand extraordinary evidence.  "It rained for ten minutes on Tuesday" vs.  "Human beings are actually meant to live underwater.”  Could I accept your personal report for bot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352320" y="228600"/>
            <a:ext cx="57913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BLE: The evidence can be observed using one of the five human senses, or using a demonstrated technological extension of a sense, such as a microscope or thermometer.  All available evidence is consid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BLE: The claim is testable, and it must be possible for those controlled experiments to be repeated, obtaining more evidence from subsequent trials and tests.  If you cannot think of a way to experimentally obtain evidence for or against a claim, it may not meet replic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360" y="152280"/>
            <a:ext cx="7010280" cy="64771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:  Natural pertains to the physical or material world, limited to nature only.  If either the mechanism or the phenomenon is supernatural, this condition is not m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:  It must be possible to conceive of evidence that would prove the claim false.  This includes no "multiple outs," which are claims where a falsification result is bound to be the fault of an observer, making it impossible for the claim to be dispro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Us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strology science, pseudoscience, or non-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actic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9000" y="1676520"/>
            <a:ext cx="5486400" cy="4572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able groups, analyze two claims using PLORNT.  Fill out the worksheet for ea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descriptive!  Give evide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everybody’s done, a representative from each group will report their claim, their decision, and their justif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sh early?  Analyze extra claims for stickers!  (Remember, stickers = extra cred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rap-Up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7760" y="1980720"/>
            <a:ext cx="6095880" cy="48769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the difference between science, non-science and pseudo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it ma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your ide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bout things like this?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youtube.com/watch?v=IB9ZcZRrMg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 safety contract and student questionnaire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do you think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akes something scientif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ets science apart from other field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65040" y="614376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the tension between creativity and skepticism that has produced the stunning and unexpected findings of science.” -Carl S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n you tell…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6386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mething is scientif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LOR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c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er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li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n you tell…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cience: Satisfies all 6 PLOR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seudoscience: Does not satisfy all 6 PLORNT, claims to be sc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science: Does not satisfy all 6 PLORNT, does not claim to be sc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ing PLORNT: Analyzing astrology - do birthdates reliably correspond with personality characteristi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a science, pseudoscience, or non-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029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Popcorn rea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On your piece of paper, write your birthdate (month and day), and the number for your personality trait clus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efore we reveal the answer…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(fraction) that you’d choose the “right” number just by ch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students in this class would probably choose the “right” number just by ch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 your slip to your righ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swers 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7:19:27Z</dcterms:created>
  <dc:creator>Rebecca Stang</dc:creator>
  <dc:description/>
  <dc:language>en-US</dc:language>
  <cp:lastModifiedBy>Rebecca Stang</cp:lastModifiedBy>
  <dcterms:modified xsi:type="dcterms:W3CDTF">2008-09-01T01:38:29Z</dcterms:modified>
  <cp:revision>12</cp:revision>
  <dc:subject/>
  <dc:title>9/4  Characteristics of Science</dc:title>
</cp:coreProperties>
</file>